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98EA-E0A6-4A49-9605-C9478BD5C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DB93-7C9E-4095-B11D-580CD56E1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08FA-F4AB-4E32-9C8A-37C045D70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6C7B-1393-4A7D-AF81-9F88D43DD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09A9-2AEE-46C5-97C8-77AEFEF34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C688-CBCD-4E00-A498-9CD548F64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349C-A506-4496-9638-BF77366F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588E-A84B-42A5-9EE8-33638FF73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BEEB-1AED-4CCD-B8C3-EDA1E2294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BF12-1DB0-46FC-B557-E7AA92569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4A25-FB41-4D90-A964-AD4B71ABE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BDB3-8EBF-476D-9CCD-E7084D510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3977-AD2D-4BFA-B5EF-913B62B53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9C94-D9A0-43EF-9C29-B8EDBFD90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C310-15B0-413E-9C1E-7473C853A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C8BB-6B2A-4A82-8AEC-C7A879E51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3D30-B235-4761-BA21-B49E75205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AE31-2391-47BE-8573-D88DD8681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E173-89CD-4EB7-A073-BF8199689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4D84-3986-47F7-BD47-93F55C83B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0509-6BB1-4E32-B082-7CE5D848C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0CF5-0069-4564-9BBD-C719C4812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CD69-8961-4206-8971-426F1A370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0844-6541-4D8D-B198-AD28F2BCC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37FA-99D0-4609-8ACF-0E57A626B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CF7A-75C6-4D74-BDB0-0DAACCFEE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60A9-BE10-4C07-9BD6-3EA257A4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DED5-D056-4D12-9935-54F9C41CC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180C-4ED9-42CD-BC03-B09D8D179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6485-4F54-4E9B-B133-6908DEE74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7CE5DC-6C7D-4BDC-801C-FFC29FB2C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B64B8E-BA55-46A7-85D1-CE4DB51CC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5718EE-7F29-4CBC-8099-3903323810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221BE9-7157-4FA9-BE1E-34FDF7D3F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8056C3-5C56-44CE-8EBB-B2D42A78E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8D82C-8C81-4C2B-8F38-68E9BDD4B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06DC2-ABFB-4CAD-924F-683B67CE1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F2DBF-25E2-489D-A98D-140252B3C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718C0-7778-47E8-BB79-247DB99E5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3D3EF-2427-4271-9105-4D6D3CE85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5BA3A-AFF3-4015-8ADF-C5471DE4A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9DFC6-193A-46F3-A70F-F2A84511B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4D6AC-E1FB-48C3-ABD4-295AA287A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13B50-013A-4C07-91ED-770B7EA05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F03B7-36EE-42D8-B807-046CB128B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8774F0-593C-4E3E-98E8-5A2E00706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920E1-9A28-490F-ACD3-A8248FE3ED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D4C5A7-50F4-4E61-8CAB-E502F5D797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3F25D-4903-4AA6-819B-C9DCE765F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421D19-E310-4597-9D06-F0EA239F0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9A390-420B-40FC-AD8F-93A700C7FB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F62BA-DE3D-434E-ADEC-48E1E7B6C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F17E1-D407-449F-92CD-1F0F0F1A0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35D81-EED9-47CD-8ECA-A7AEC6981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7A69-659D-4A4B-9EB8-D45A074844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1A1D-5EF5-4B67-8CCC-4B91F77ADD89}" type="datetime">
              <a:rPr b="0" lang="en-US" sz="1200" spc="-1" strike="noStrike">
                <a:solidFill>
                  <a:srgbClr val="000000"/>
                </a:solidFill>
                <a:latin typeface="Times New Roman"/>
              </a:rPr>
              <a:t>07/30/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85B9-D593-442C-AAD0-6626BFD7C2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BCCD0E9-F3FA-4245-97B5-C71C14490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CFEE84-8E28-41B4-91E6-03340944D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1FDFDD-7B63-4105-873B-27F60FA4D8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D8802E-1483-48C9-A183-A8629E6B3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C306321-D2E1-4FEE-8966-CFA82EF7AF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5227F4-7376-4917-B16D-A0FEE1CA7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2DC6A16-02AE-4492-933C-A7DB1EE45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3C538C-AE3A-4569-BDAD-5BC3CC43D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15B679-6AAF-417D-B14C-59B14AB34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49D81D0-EA0D-41A1-89EA-4B4B17206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A0FC6E-BEC7-458E-867A-F936CDCED1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1C7AAA-5AAD-4EC5-9ED2-CD973D93B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809E56C-F6B2-431A-B571-A29705250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74AA5A-1D96-4AE6-A301-6282442EF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60CEDC-8D7F-437E-B3F5-E4B12994C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B79ADE-8023-4E06-BF1E-B345ABF6A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F86F46-2A91-40F5-AD9F-9FAC4557A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96B8A7-9DA1-4EF2-A798-B4ED93262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06C1032-7699-4FAE-BE3A-0715B1DDD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947FFC-727F-4FF6-ABA6-5B7E45E56A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BC9581-778E-461A-9DEA-3E11710187C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0C225A-46A7-4B96-829B-9F3EA404BC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7EBE0D9-43DA-4B68-8FA7-CC4E71646F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8DE1DD-23C1-48B5-87B3-6E45212338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DECC11-254A-4DAC-8CA9-EE6B575454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5D18FD-03AF-45C0-81A6-2ABF67A431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50DBF5-C484-4B40-9742-5E2EAA11EC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932990C-7C3A-4FDD-B278-C75E19DE3B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2D4D37F-3766-466C-A3DC-511BA6052B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E13EF93-801A-4508-8240-B66E6D054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2EAF61-9C13-4686-BBC6-D9494F0C8C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DF0CD6-7233-4386-A2D9-764926C250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A87B674-6660-4617-8395-1A3431166C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BB20EA2-AA85-4962-B78F-98DF52BC37A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43EEED5-2448-4085-AB2C-C3A008FF7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02BCC8-13AF-4395-A709-3B74646477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04AB33-537E-4B78-B376-70597E5A44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12EE02-BF62-421E-A0AE-2463AB4B96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404989-0E88-460F-B943-B14679A114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